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FA0-77F7-416B-8A8E-66E859AE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828-9628-41D1-BE57-5E0171B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DC9-3027-4ED7-86A1-4EBCFB20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A55-701A-4A6A-A99F-9B52E6B7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EAC-E09D-4F50-B197-01C91D23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C7C-DED8-4329-9867-AC5976E3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C49-CBE0-4EC8-8605-ACBF537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59D-5396-43A0-9319-FAB9E41F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0EE-C724-4F5B-BACC-5146D12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5ED-19C2-4AC4-83F3-34C094E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A77-9B0D-41E9-B5C6-46A44ED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CCE-3C22-4F22-B81F-C1D9F35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2BF-31FE-4124-8080-C002B4F81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SECUR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se are slides that were part of a CISSP prep course that I partly developed and taught while I was with Ernst and You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se slides are dated – August 1999 -  the core information is still releva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 w/ any questions or comments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Rothke, CISSP  brothke@hotmail.c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undary Prot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a Designation: Facilitates 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hicula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 (Escort &amp; Logg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 Casual Tres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ments Other Access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n’t Stop Determined Intru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undry Protec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king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meter Detec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Prevent Pene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rts Response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isance Ala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undry Protec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T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Human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Control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Floor to Cei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 Rating (at least 1 ho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et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acent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ior/Ext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 Ra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/Open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ior/Ext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tterpro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and Equipment Room Lay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pment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p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le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out - Loss of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nout - Prolonged Period of Below Normal Vol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 - Random Disturbance that Interferes with a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g - Short Period of Low Vol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ke - Momentary High Vol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e - Prolonged High Vol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ent - Line Noise/Disturbance at Normal Vol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icated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ed Access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Distribution Pa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ter Circuit Break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er 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ower Off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Monitoring/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ge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Fe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nterruptible Power Sup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en Gas Ha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/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Power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 Consid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/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Power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Access Control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 Protec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s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V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Cond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Shut Off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 Air Int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ddress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rea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ulnerabil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rmeas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can be utilized to physically protect an enterprise’s resources and sensitive information to include people, facilities, data, equipment, support systems, media, and suppl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iscuss considerations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oosing a secure si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sign and configur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ethods for securing the fac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gainst unauthorized access, theft of equipment and information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nvironmental and safety meas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eded to protect people, the facility, and its resour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Facility Requiremen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idity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of Static Electri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to Electric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Quality (Du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ing W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ng W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ve Cov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isture Detec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Prevention &amp; Prot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Of Computer Center F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: Electrical Distribu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: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Common Compustibles (use Water/Soda Ac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Liquid (C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Soda Acid/Hal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: Electrical (C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Hal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Prevention &amp; Protec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s When Damage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 Product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Equip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tic Med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 (Photoelectric-Smoke Blocking Light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ization (Reaction to Charged Particles in Smok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Detec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eil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ve Suspended Ceil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ath Raised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ir 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-Z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&amp; Automated Ac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&amp; Audible In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&amp; Remote Annun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Sup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able Extinguis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Ex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Locations and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, B &amp;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In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Sprinkl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to Lower Temper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amaging to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ntional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y Pipe” Systems: Less Risk of Lea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 in Throughout Building and in all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Suppress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less/Odor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ly Leth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s Oxy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for Unattended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ed-Activation in Manned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Suppress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Protection for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 Equipment Cabinets/Vaul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Suspended Ceil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Raised Flo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s &lt;10% are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 Toxic at 90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etes Ozone (CF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real Protocol (19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on 1301: Requires Pressu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on 1211: Self-Pressurization (Portable Extinguish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Prevention &amp; Protec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Fire Prevention Association (NFPA)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Fire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ring Storage Are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Storage Ro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reat of F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 Storage Ro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Prot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Libraries/Special Ro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i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Security 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 Design and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Secur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entralized Comput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stributed Process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tended Process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ecting Wi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ying the Wiring and Cab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 Access to Closets and Riser Ro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ing with Existing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grade/Reno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l New 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ng the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 Physical and Environmental Controls for Security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 against both Intentional and Inadvertent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nel Access Contr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Sensitivity Design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Review of Access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 Screening/Re-Scre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tion/Transfer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gruntled Employ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Controls – Loc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t Locks and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able 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(Cipher Loc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(Keypad Systems): Digital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ombin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Digits in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of Code Ch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Lock-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Ala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Controls - Toke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 Car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mb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 Identification Ba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Visual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mbined with Smart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ded (Smart)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Require Use of PIN Number with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: Card Insertion, Card Swipe &amp; Proxim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Access Car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 ID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Coded Cards (Magnetic Do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Circuit Cards (Embedded W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etic Cards (Magnetic P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llic Stripe Card (Copper Stri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Controls - Biometr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gerprint/Thumbprint Sc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d Vein Pattern Sc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 Ge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al Recog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 Ver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stroke Recor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Security in Distributed Proces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ring Compu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ring Disket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r Err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icious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ted Processing Physical Security Control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ice Area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Lay-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-Copy Document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Media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n-Desk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fice Area Physical Security Control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er/Output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 Protec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Lock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book of Information Security Management 1999 - Krause &amp; Tip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ecurity Handbook, Third Edition - Hutt, Bosworth &amp; Ho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SC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BK Review Mate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to Computer Security: The NIST Hand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ted Processing Physical Security Control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bl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 Switch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board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ted Processing Physical Security Control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lated Powe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 Fluc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Ou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/Humidity Consid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/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Media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nded Processing Physical Security Contr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ser Responsibilities Paramoun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tection against Disclosu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houlder Surf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ess to Sensitive Media and Written Materia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grity Protecti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tection against Loss or Thef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agement Responsibiliti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her Terms &amp; Abbrevi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gy-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y Behi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au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n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r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-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mpster Div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 Positive/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real P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ess Ala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per Ala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4280" y="175212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Ultrason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 Safe/Fail So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er Surf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Ema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nse in Dep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Gu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Physical Security Includ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ccess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s and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y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/Detec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Else Does Physical Security Cove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V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Sup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c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Monitoring/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Security Threa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at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/Torn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and 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at Identification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Physical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 Lea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Interru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o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e Design &amp; Configuration Consider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and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Cr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Haz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and Surfac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Ten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 Power Sup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Boundary Protection (Barriers/Fencing/G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cp:lastPrinted>1999-08-12T20:59:47Z</cp:lastPrinted>
  <dcterms:modified xsi:type="dcterms:W3CDTF">2003-06-12T14:27:59Z</dcterms:modified>
  <cp:revision>20</cp:revision>
  <dc:subject/>
  <dc:title>CISSP CBK Review - Physical Security</dc:title>
</cp:coreProperties>
</file>